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C0BB-B16F-4876-9C69-6D0F2B72C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60FF-5588-4C1B-BBC5-D29198FF8EA2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040D-0811-43D1-BFCE-56ACED65B00D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ypes of questions I am asking – these are high level questions, assumes you have read the book, but looks across bigger picture, rather than selecting isolated detail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ing: (two settings: Long Island - her hometown; Summer house in Delaware River and Branches in Upstate New York: where Steven lived; some place by the water – Josie’s house; Characters: Hollis, Mustard Women, Steven, The Old Man, Josie) ; Problem: Hollis doesn’t have a family (she was abandoned on p. 48); longs to belong; some issue with Steven and how she messed everything up (p. 29); She’s starting to love Josie and to feel important in life, but Josie forgets things (Ch. 3, p. 31); The Old Man sees her strengths also as an artist.  Authors craft: reveals character through two formats (Some chapters through her journal/thoughts; and others through her interactions with others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1EE1-941A-443D-80D1-650ECCF38C74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DF2B-7867-4F22-BEF2-620974991723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F19E-2A5C-4AAD-8DDF-66B47FB17374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4E43-78F5-48AE-A7E5-318668DFF1E4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C93C-47BB-45D5-8F4E-9FC7F7CEF43C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1AB0-FDE0-4200-912D-A716AAD897BD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E112-2489-4B9D-93F4-5AD34ABA02DA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ing: (two settings: Long Island - her hometown; Summer house in Delaware River and Branches in Upstate New York: where Steven lived; some place by the water – Josie’s house; Characters: Hollis, Mustard Women, Steven, The Old Man, Josie) ; Problem: Hollis doesn’t have a family (she was abandoned on p. 48); longs to belong; some issue with Steven and how she messed everything up (p. 29); She’s starting to love Josie and to feel important in life, but Josie forgets things (Ch. 3, p. 31); The Old Man sees her strengths also as an artist.  Authors craft: reveals character through two formats (Some chapters through her journal/thoughts; and others through her interactions with others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C570-BF00-410F-B6EF-EA7CF2EE7381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DC77-36B1-40C7-B25A-85C00923B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7D85-981A-4CCF-85B8-14EB71F15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6189-F6A3-4AFF-A5A0-BEC6E4C14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18F1-35FF-445B-A826-77482CEC4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AFF6-8FDC-4D1F-9E6F-40E4372BF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B00E2-7030-4FDE-ADB9-F0011ED5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7C57-EC2E-48EB-891A-516A7052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44A5-4A81-41A6-A4F6-CEAC6DB3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7E5BC-98D8-4D92-A1F6-EF7F66FA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CE1A-FFAA-4E3C-BABF-3791601D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27094-C87D-4F8B-93FF-46E03A84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CCC5-C4C6-4F94-B3F2-42810178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804A-FA76-4792-8FBC-868B7A3B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37B5-AE17-450D-BFE5-DF4A7D71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FAFD0-5D08-454C-ACFD-7B8D8AF1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33C2-EC3A-4F48-BD46-824BDFC2D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4392-DF78-4EB6-B978-42D003EF2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7F0E-BE5B-498F-BC19-BD30E08E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4674-A764-4911-BE65-E719644B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008E-1826-4151-8690-0ED5F027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E305-FFE7-4A33-85BD-2697BFBD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55CA-23D6-4D32-9E47-2DDC8681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0F34-AB13-4711-935F-83BABF89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5625-B48F-45C6-A595-E1A146CB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32DD-DEC7-46B5-8105-7D76C5650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CE06-38D3-48A7-B3F0-C551D20EE66A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137124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0000"/>
                </a:solidFill>
                <a:latin typeface="Arial"/>
              </a:rPr>
              <a:t>Elements of Realistic Fiction </a:t>
            </a:r>
            <a:br>
              <a:rPr sz="3600"/>
            </a:br>
            <a:r>
              <a:rPr b="1" lang="en-US" sz="3600" spc="-1" strike="noStrike">
                <a:solidFill>
                  <a:srgbClr val="320000"/>
                </a:solidFill>
                <a:latin typeface="Arial"/>
              </a:rPr>
              <a:t>&amp; Author’s Craft (</a:t>
            </a:r>
            <a:r>
              <a:rPr b="1" i="1" lang="en-US" sz="3600" spc="-1" strike="noStrike">
                <a:solidFill>
                  <a:srgbClr val="320000"/>
                </a:solidFill>
                <a:latin typeface="Arial"/>
              </a:rPr>
              <a:t>Hollis Woods</a:t>
            </a:r>
            <a:r>
              <a:rPr b="1" lang="en-US" sz="3600" spc="-1" strike="noStrike">
                <a:solidFill>
                  <a:srgbClr val="320000"/>
                </a:solidFill>
                <a:latin typeface="Arial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320000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320000"/>
                </a:solidFill>
                <a:latin typeface="Arial"/>
              </a:rPr>
              <a:t>Guided Reading Instruction: Questioning Strategies and Inferring Character Traits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60195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DC423 - Dr. Julie Coiro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Connecting to Hollis Wood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Refer to your Author’s Craft char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trong Character Development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hallenging Situation requiring problem solving?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ints of an Optimistic Message?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New insights into relationships or broader range of experiences?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nteresting patterns you are noticing?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Incorporating these discussions into guided reading Gr. 3-6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ese discussions require high-level thinking; moving beyond recall and comprehension of isolated details (Who?, What?, When?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onnections between story events? How? Why? What do you think? How do these ideas reflect theme of…?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tudents need modeling &amp; support in how to answer &amp; eventually ask themselves questions that keep them engaged with the story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Question-Answer Relationships (QAR)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By recognizing the type of question being asked, students are better able to find the answer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o, they don’t spend all their time looking for answers that are not “right there”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n addition, they learn how to generate their own high-level (or low-level) question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Move on to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hick Questions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big picture concepts) and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hin Questions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specific details) that guide their own thinking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Question-Answer Relationships (QAR)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Albert was afraid that Susan would beat him in the tennis match. The night before the match, Albert broke both of Susan’s racquets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IGHT THERE: When did Albert break both of Susan’s racquets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INK &amp; SEARCH: Why did Albert break both of Susan’s racquets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ON YOUR OWN: Why was Albert afraid that Susan would beat him?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UTHOR &amp; YOU: What does the author seem to imply about Albert in this passage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Levels of Question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Right There: LITERA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nk and Search: INFERENTIAL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read between the lines and think how info fit together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uthor and You: INFERENTIAL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think about author clues and formulate own opinion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On My Own: EVALUATIVE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what do you think?)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Question-Answer Relationships (QAR)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nswer questions in your handout for Vacation Under the Volcano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enerate and label your own questions using Hollis Woods, p. 18-20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ow can QAR help (as a reader)?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ow can QAR help (as a teacher)?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Moving Beyond Recall – </a:t>
            </a: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Making Inferences About Characters 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killed authors develop “deep characters” over the course of a story – How can we learn more about these characters?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Make inferences (educated guesses) based on text clues and background knowledge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Using inferencing to identify character traits: Draw a conclusion about a character’s qualities from what the character says, this, and does (actions, thoughts, feelings, words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0000"/>
                </a:solidFill>
                <a:latin typeface="Arial"/>
              </a:rPr>
              <a:t>Building Vocabulary while Making Inferences About Characters 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Encourage students to move beyond  “nice”, “happy”, and “angry” to depict strong characters in quality literatur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e your handout for vocabulary idea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Use the events in </a:t>
            </a: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Hollis Woods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ages 1-54 to identify three character traits (and supporting evidence) for Hollis at the beginning of the novel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Keep these elements in mind as you continue reading…. 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story elements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o structure your response (and story clues to back up with evidence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tting/Context: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haracters: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roblem/Resolution: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Key steps toward addressing that problem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mpressions of theme/author’s messag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mpressions of “author’s craft”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viewing Today’s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838224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1. Two booktalks &amp; Feedback on Book Activ. 4-5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2. Discuss qualities of realistic fiction and initial “big ideas” in Hollis Woods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3. Offer impressions related to story elements and Author’s Craft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4. Introduce methods for Guiding Reading Discussions and Responses to Read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Question Answer Relationship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ferencing: Identifying Character Trait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Today’s Learning Objective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838224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1. Two booktalks &amp; Feedback on Book Activ. 4-5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2. Discuss qualities of realistic fiction and initial “big ideas” in Hollis Woods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3. Offer impressions related to story elements and Author’s Craft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4. Introduce methods for Guiding Reading Discussions and Responses to Read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Question Answer Relationship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ferencing: Identifying Character Trait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For Tuesday Nov. 2: Continue reading Hollis Woods (pp. 55-109) &amp; filling out summary shee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lass: Nov. 2 (Guided Text Discussions)  Hmwk:  Finish reading Hollis Woods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lass: Nov. 4 (Lit Circles &amp; Summarizing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lass: Nov. 9 (Learning Objectives &amp; GLEs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Due Dates Changed: Book Activity 7 [text queries] and 8 [lit circles] (Now due Nov. 9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Nov. 10: Planning Sheet Lesson Plan Du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19807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Feedback: </a:t>
            </a:r>
            <a:br>
              <a:rPr sz="4400"/>
            </a:b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Book Activity 4 &amp; 5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Non-Fiction, Fiction, and Fantasy</a:t>
            </a: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…in 4</a:t>
            </a:r>
            <a:r>
              <a:rPr b="0" lang="en-US" sz="4000" spc="-1" strike="noStrike" baseline="30000">
                <a:solidFill>
                  <a:srgbClr val="32000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 grade language 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Non-Fiction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: (TRUE) a story based on real things that really happened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Fiction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: (PRETEND) a story that is pretend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Realistic Fiction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: a story based on things that </a:t>
            </a: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could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appen in real life, but </a:t>
            </a: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didn’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Fantasy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: a story based on things that could never happen in real life (magic, time travel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Elements of Realistic Fict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Narrative stories grounded in reality with believable characters, situations, and setting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Reflects </a:t>
            </a:r>
            <a:r>
              <a:rPr b="0" lang="en-US" sz="2200" spc="-1" strike="noStrike" u="sng">
                <a:solidFill>
                  <a:srgbClr val="330000"/>
                </a:solidFill>
                <a:uFillTx/>
                <a:latin typeface="Arial"/>
              </a:rPr>
              <a:t>contemporary life</a:t>
            </a: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; takes place in familiar settings; and presents common situations with which the reader can identify  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rotagonists face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real-life problems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abuse, drugs, disability, death) and mature from the life experienc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Very popular genre (book and authors have won many awards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lot, setting, character, theme, point of view*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ypes of Realistic Fict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Becoming One’s Own Person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(transition from child and growing into an adult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Challenging relationships, transitions, struggles with human issues such as friendship, love, or acceptance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oping with Problems of the Human Condition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physical/emotional challenges and age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Living In A Diverse World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racial, ethnic, cultural diversity)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For Kids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family stories, school stories, animal stories, adventure/survival stories, humorous stories, mysteries, serious stori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4417560" y="6324480"/>
            <a:ext cx="39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Keifer, Hickman, &amp; Hepler (2007)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Quality Realistic Fict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haracteristics: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 good story that engages readers to care about the outcom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**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Character development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forms an integral part of the story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volve a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challenging situation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requiring problem solving or reflect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eaders left with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optimistic messag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that problems can be overcome and people have control over their lives</a:t>
            </a: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Keep in mind as you read and reflect on </a:t>
            </a:r>
            <a:r>
              <a:rPr b="0" i="1" lang="en-US" sz="2000" spc="-1" strike="noStrike">
                <a:solidFill>
                  <a:srgbClr val="330000"/>
                </a:solidFill>
                <a:latin typeface="Arial"/>
              </a:rPr>
              <a:t>Hollis Woods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Quality Realistic Fict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Benefit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(with effective instruction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Readers gain new </a:t>
            </a:r>
            <a:r>
              <a:rPr b="0" lang="en-US" sz="2200" spc="-1" strike="noStrike" u="sng">
                <a:solidFill>
                  <a:srgbClr val="330000"/>
                </a:solidFill>
                <a:uFillTx/>
                <a:latin typeface="Arial"/>
              </a:rPr>
              <a:t>insights into themselves and peers</a:t>
            </a: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 in the context of realistic relationships and problems we face in our lives 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Presents a </a:t>
            </a:r>
            <a:r>
              <a:rPr b="0" lang="en-US" sz="2200" spc="-1" strike="noStrike" u="sng">
                <a:solidFill>
                  <a:srgbClr val="330000"/>
                </a:solidFill>
                <a:uFillTx/>
                <a:latin typeface="Arial"/>
              </a:rPr>
              <a:t>model of confronting life experiences</a:t>
            </a: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 where the reader can serve as a spectator (watch reality, from a safe distance, as opposed to escaping from it with fantasy)  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Depicts life in other cultures, geographic or economic regions which fosters a </a:t>
            </a:r>
            <a:r>
              <a:rPr b="0" lang="en-US" sz="2200" spc="-1" strike="noStrike" u="sng">
                <a:solidFill>
                  <a:srgbClr val="330000"/>
                </a:solidFill>
                <a:uFillTx/>
                <a:latin typeface="Arial"/>
              </a:rPr>
              <a:t>broader view of the world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What’s the best way to sum up the big ideas in narrative texts? 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story elements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o structure your response (and story clues to back up with evidence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tting/Context: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haracters: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roblem/Resolution: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Key steps toward addressing that problem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mpressions of theme/author’s messag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mpressions of “author’s craft”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Author’s Craf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ools and techniques of language and storytelling that an author uses to craft a story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Narrative elements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(setting, theme, &amp;  characterization – how authors convey information about these elements)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Literary Devices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(alliteration, allusion, metaphor, parallel structure, simile, etc)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17:11:54Z</dcterms:created>
  <dc:creator>Julie Coiro</dc:creator>
  <dc:description/>
  <dc:language>en-US</dc:language>
  <cp:lastModifiedBy>Julie Coiro</cp:lastModifiedBy>
  <cp:lastPrinted>2009-10-19T14:47:12Z</cp:lastPrinted>
  <dcterms:modified xsi:type="dcterms:W3CDTF">2010-10-27T19:19:59Z</dcterms:modified>
  <cp:revision>339</cp:revision>
  <dc:subject/>
  <dc:title>Metacognitive Strategy Instruction to Enhance Reading Comprehension</dc:title>
</cp:coreProperties>
</file>